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06D-D9F3-480A-B0C4-0EB01F92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14D-C738-44EC-B8C7-B5570E1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439-91BB-4D7D-BAA4-3A0AD432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985-A248-4D04-B418-E92F4B3D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F08-6A33-4BA3-BED8-31901B5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D97-E696-4E88-9934-0FD6527B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120-719D-4FC7-B670-685411C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48F-7D69-443D-9F25-C0744AD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ECD-BEEA-4E5C-8CBC-AC5FC79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0EF-EA7C-40D0-BF49-E9FA3B5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547-C5A9-49CD-AF32-BC10A95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649-3842-45B6-856D-335F911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A3A-9F98-43D7-B124-8447ABEF0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and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th his m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your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rom my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been a lo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ll you be goo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e them to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n we will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is the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angr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y I go fir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will they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your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my c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dog is bi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 on the b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of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se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e the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big as the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not fo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called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will we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they ge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rom here to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umb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ok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l or 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lik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ong way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had their do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did they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or some of you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id they s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would you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number of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long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than th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e and get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any wor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t of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a good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an you s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and 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no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find 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ok for some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like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 there you a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 of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o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ere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 you see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mor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like to wr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l day l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o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about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othe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 will mak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 in the 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has to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ach of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has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we were 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re was an old m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no 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may fall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0:58Z</dcterms:created>
  <dc:creator>Rob Hall</dc:creator>
  <dc:description/>
  <dc:language>en-US</dc:language>
  <cp:lastModifiedBy>test2</cp:lastModifiedBy>
  <dcterms:modified xsi:type="dcterms:W3CDTF">2008-01-30T17:03:03Z</dcterms:modified>
  <cp:revision>5</cp:revision>
  <dc:subject/>
  <dc:title>High-Frequency Phrases</dc:title>
</cp:coreProperties>
</file>